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9DD-3A98-4898-B6F2-41197C3A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AABE-8AFB-4011-9177-B0047CEA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110-361D-4B74-9C2A-CDFD9AE6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559-7B5F-4031-8F70-21476B52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0FA3-56B6-4853-88B0-9C38408E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00AE-A67A-411A-B401-4C9BEF47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C776-3520-4683-B80D-17A1C39B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E1C7-1276-4335-8992-69412672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3E9C-A1C9-41EA-BE6C-85C736F5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9056-F37D-4CB9-B2E0-284BA8D5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1874-C067-4FF7-A897-2094031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14D-DE39-4013-AB14-961E54D3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2F2-D992-4706-BE26-F4FF78EE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C4B0-AEB7-4C8D-9EE1-43A3577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2600-D69A-4302-AE89-373F541A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BB4D-F377-4A41-9C43-063F3527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5A26-AA12-45F0-B5F9-034C9DFF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074-B7D4-4E3D-9C5F-95281410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C0D-EFEB-4775-B54F-87CEA9E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30D-4791-4E5D-BF56-787CC093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B24-8671-4556-B2B3-753057F4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4FF-0EE7-431E-B882-6A52C482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BF6-7F68-45DA-9AB4-577455B7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222-3E21-4BCD-BE00-5B4A2C3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93C8-3D89-453B-8406-F9CEDD6FD4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D677-0BC1-4C07-A1B9-B07553FF65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iphi-pi.org/b2b/pics/Aluminum_Alloy_Nonstick_Frying_Pan_with_Lid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/imgres?imgurl=http://www.naturalhomemagazine.com/uploadedImages/marketing/RecycledGlass11ServingPlate.jpg&amp;imgrefurl=http://www.naturalhomemagazine.com/shopping/browse.aspx%3Fsubject%3DNHP&amp;usg=__yS-f-mY4XXCOODWlQ19IeS1dbjk=&amp;h=640&amp;w=960&amp;sz=45&amp;hl=en&amp;start=47&amp;um=1&amp;tbnid=1gKBySz1db0PgM:&amp;tbnh=99&amp;tbnw=148&amp;prev=/images%3Fq%3Dglass%26ndsp%3D20%26hl%3Den%26rls%3Dcom.microsoft:en-us%26sa%3DN%26start%3D40%26um%3D1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crobike.de/en/werbemittel_bilder/branders/2200/16339.jpg&amp;imgrefurl=http://www.crobike.de/en/store/category_detail.php%3Fkat%3DMugsDrinkware%26country%3DWorldwide%26will%3DCeramic%2BMugs&amp;usg=__xemF8--2uPks1rLzNPBZ1qfVARY=&amp;h=200&amp;w=200&amp;sz=4&amp;hl=en&amp;start=3&amp;um=1&amp;tbnid=rE6WqVoZ8euQFM:&amp;tbnh=104&amp;tbnw=104&amp;prev=/images%3Fq%3Dceramic%2Bmug%26hl%3Den%26rls%3Dcom.microsoft:en-us%26um%3D1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Material Properti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7" name="Aluminum_Alloy_Nonstick_Frying_Pan_with_Lid" descr=""/>
          <p:cNvPicPr/>
          <p:nvPr/>
        </p:nvPicPr>
        <p:blipFill>
          <a:blip r:embed="rId1"/>
          <a:srcRect l="0" t="11142" r="0" b="11142"/>
          <a:stretch/>
        </p:blipFill>
        <p:spPr>
          <a:xfrm>
            <a:off x="1708200" y="1828800"/>
            <a:ext cx="2514600" cy="1952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60" y="6477120"/>
            <a:ext cx="49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chiphi-pi.org/b2b/pics/Aluminum_Alloy_Nonstick_Frying_Pan_with_Lid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cobbk12.org/Russell/images/shuttle_endeavour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shuttle_endeavour" descr=""/>
          <p:cNvPicPr/>
          <p:nvPr/>
        </p:nvPicPr>
        <p:blipFill>
          <a:blip r:embed="rId3"/>
          <a:stretch/>
        </p:blipFill>
        <p:spPr>
          <a:xfrm>
            <a:off x="6019920" y="2705040"/>
            <a:ext cx="2184120" cy="3238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75160" y="1523880"/>
            <a:ext cx="44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Why do pans have non-metal hand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9875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Why is a space shuttle covered in ceramic ti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0120" y="3930480"/>
            <a:ext cx="43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Why is cement better in compression and string better in tens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all_of_string" descr=""/>
          <p:cNvPicPr/>
          <p:nvPr/>
        </p:nvPicPr>
        <p:blipFill>
          <a:blip r:embed="rId4"/>
          <a:stretch/>
        </p:blipFill>
        <p:spPr>
          <a:xfrm>
            <a:off x="3079800" y="4800600"/>
            <a:ext cx="1371600" cy="1312920"/>
          </a:xfrm>
          <a:prstGeom prst="rect">
            <a:avLst/>
          </a:prstGeom>
          <a:ln w="0">
            <a:noFill/>
          </a:ln>
        </p:spPr>
      </p:pic>
      <p:pic>
        <p:nvPicPr>
          <p:cNvPr id="104" name="p_profile-327-1" descr=""/>
          <p:cNvPicPr/>
          <p:nvPr/>
        </p:nvPicPr>
        <p:blipFill>
          <a:blip r:embed="rId5"/>
          <a:stretch/>
        </p:blipFill>
        <p:spPr>
          <a:xfrm>
            <a:off x="1765440" y="4648320"/>
            <a:ext cx="12380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Materials Test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Compressive Streng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The maximum compressive stress a material can withstand withou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Crushing or buckling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Failure depends on the material’s geometry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Euler buckling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Testing 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4120" y="1752480"/>
          <a:ext cx="1947600" cy="19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752480"/>
                    <a:ext cx="194760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120080" y="1754280"/>
          <a:ext cx="164304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0080" y="1754280"/>
                    <a:ext cx="16430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Buckled_column" descr="File:Buckled column.png"/>
          <p:cNvPicPr/>
          <p:nvPr/>
        </p:nvPicPr>
        <p:blipFill>
          <a:blip r:embed="rId5"/>
          <a:stretch/>
        </p:blipFill>
        <p:spPr>
          <a:xfrm>
            <a:off x="6019920" y="3962520"/>
            <a:ext cx="19238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Materials Test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362268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iss"/>
              </a:rPr>
              <a:t>Fracture Strength:</a:t>
            </a: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Bendi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liss"/>
              </a:rPr>
              <a:t>What’s going on in the center of the material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liss"/>
              </a:rPr>
              <a:t>Lab: Measure deflection of spaghetti under a given loa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Tensile Strength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liss"/>
              </a:rPr>
              <a:t>Lab: Measure fracture strength of sample under ten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1719360"/>
          <a:ext cx="335304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19360"/>
                    <a:ext cx="335304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700600" y="1676520"/>
          <a:ext cx="245268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00600" y="1676520"/>
                    <a:ext cx="24526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py V-notch Tes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ughnes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stance to fracture of a material when stressed (defined as area under stress-strain cur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energy absorbed in 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es material as either brittle or duc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tle: absorbs small amount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tile: absorbs large amount of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jk71f2" descr=""/>
          <p:cNvPicPr/>
          <p:nvPr/>
        </p:nvPicPr>
        <p:blipFill>
          <a:blip r:embed="rId1"/>
          <a:stretch/>
        </p:blipFill>
        <p:spPr>
          <a:xfrm>
            <a:off x="6172200" y="2778120"/>
            <a:ext cx="2857680" cy="3622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07160" y="661356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twi.co.uk/twiimages/jk71f2.g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5257800"/>
          <a:ext cx="468612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5257800"/>
                    <a:ext cx="4686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Bliss"/>
              </a:rPr>
              <a:t>Material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600200"/>
            <a:ext cx="626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nding/Material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lk Material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943600" y="1600200"/>
            <a:ext cx="31240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76320"/>
            <a:ext cx="2666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Bliss"/>
              </a:rPr>
              <a:t>Solid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2514600"/>
            <a:ext cx="5638680" cy="445176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1. Crystals/Metals </a:t>
            </a:r>
            <a:r>
              <a:rPr b="0" lang="en-US" sz="1600" spc="-1" strike="noStrike">
                <a:solidFill>
                  <a:srgbClr val="000000"/>
                </a:solidFill>
                <a:latin typeface="Bliss"/>
              </a:rPr>
              <a:t>(Fe, Cu, Al, quart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Atoms and molecules are systematically arranged during soli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2. Glasses and Ceramics </a:t>
            </a:r>
            <a:r>
              <a:rPr b="0" lang="en-US" sz="1600" spc="-1" strike="noStrike">
                <a:solidFill>
                  <a:srgbClr val="000000"/>
                </a:solidFill>
                <a:latin typeface="Bliss"/>
              </a:rPr>
              <a:t>(sand, brick, window gla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High viscosity during solidification prevents crystal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3. Polymers </a:t>
            </a:r>
            <a:r>
              <a:rPr b="0" lang="en-US" sz="1600" spc="-1" strike="noStrike">
                <a:solidFill>
                  <a:srgbClr val="000000"/>
                </a:solidFill>
                <a:latin typeface="Bliss"/>
              </a:rPr>
              <a:t>(rubber, plastics, DNA, protei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Long chains of simple molecular struc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4. Composites </a:t>
            </a:r>
            <a:r>
              <a:rPr b="0" lang="en-US" sz="1600" spc="-1" strike="noStrike">
                <a:solidFill>
                  <a:srgbClr val="000000"/>
                </a:solidFill>
                <a:latin typeface="Bliss"/>
              </a:rPr>
              <a:t>(plywood, cement and reb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Use of two or more materials to obtain desired 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engineering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2210main" descr="[Photo: Various Crystals]"/>
          <p:cNvPicPr/>
          <p:nvPr/>
        </p:nvPicPr>
        <p:blipFill>
          <a:blip r:embed="rId1"/>
          <a:stretch/>
        </p:blipFill>
        <p:spPr>
          <a:xfrm>
            <a:off x="2819520" y="22860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12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98280"/>
            <a:ext cx="1447560" cy="968400"/>
          </a:xfrm>
          <a:prstGeom prst="rect">
            <a:avLst/>
          </a:prstGeom>
          <a:ln w="0">
            <a:noFill/>
          </a:ln>
        </p:spPr>
      </p:pic>
      <p:pic>
        <p:nvPicPr>
          <p:cNvPr id="113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8487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4" name="dna_500" descr=""/>
          <p:cNvPicPr/>
          <p:nvPr/>
        </p:nvPicPr>
        <p:blipFill>
          <a:blip r:embed="rId6"/>
          <a:stretch/>
        </p:blipFill>
        <p:spPr>
          <a:xfrm>
            <a:off x="6095880" y="1676520"/>
            <a:ext cx="182880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drop-plastic-bottle-collect" descr=""/>
          <p:cNvPicPr/>
          <p:nvPr/>
        </p:nvPicPr>
        <p:blipFill>
          <a:blip r:embed="rId7"/>
          <a:stretch/>
        </p:blipFill>
        <p:spPr>
          <a:xfrm>
            <a:off x="7086600" y="2494080"/>
            <a:ext cx="1981080" cy="1357200"/>
          </a:xfrm>
          <a:prstGeom prst="rect">
            <a:avLst/>
          </a:prstGeom>
          <a:ln w="0">
            <a:noFill/>
          </a:ln>
        </p:spPr>
      </p:pic>
      <p:pic>
        <p:nvPicPr>
          <p:cNvPr id="116" name="800px-Plywood" descr="File:Plywood.jpg"/>
          <p:cNvPicPr/>
          <p:nvPr/>
        </p:nvPicPr>
        <p:blipFill>
          <a:blip r:embed="rId8"/>
          <a:srcRect l="0" t="0" r="20700" b="0"/>
          <a:stretch/>
        </p:blipFill>
        <p:spPr>
          <a:xfrm>
            <a:off x="5943600" y="4645080"/>
            <a:ext cx="1295280" cy="1222200"/>
          </a:xfrm>
          <a:prstGeom prst="rect">
            <a:avLst/>
          </a:prstGeom>
          <a:ln w="0">
            <a:noFill/>
          </a:ln>
        </p:spPr>
      </p:pic>
      <p:pic>
        <p:nvPicPr>
          <p:cNvPr id="117" name="Rebar-Tools-Home-big" descr=""/>
          <p:cNvPicPr/>
          <p:nvPr/>
        </p:nvPicPr>
        <p:blipFill>
          <a:blip r:embed="rId9"/>
          <a:stretch/>
        </p:blipFill>
        <p:spPr>
          <a:xfrm>
            <a:off x="7326360" y="4114800"/>
            <a:ext cx="1665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tomic Struc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atom look like and what are its compon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are the electrons shells compared to the nucle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tomic Structur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410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1) Com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A) Nucleus: protons(+) and neutrons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B) Electrons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2) ~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liss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m across = 0.000000000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3) Neutral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liss"/>
              </a:rPr>
              <a:t>#electrons = #pr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4) Electrons orbit around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5) Reactivity with other atoms depends on # of electrons in outermost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6) Electrons in outermost shell are called “valence”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atom-bohr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84976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Bond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5181840" cy="45309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Primary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Ionic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transfer of electrons between metal and non-metal ion (NaCl and ceram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Covalent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localized sharing of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(ceramics, diamond, glass, w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Metallic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delocalized sharing of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(met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Secondary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Van der Waals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weak forces that attract neutral molecules to another other in 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liss"/>
              </a:rPr>
              <a:t>Hydrogen Bonding</a:t>
            </a:r>
            <a:r>
              <a:rPr b="0" lang="en-US" sz="1800" spc="-1" strike="noStrike">
                <a:solidFill>
                  <a:srgbClr val="000000"/>
                </a:solidFill>
                <a:latin typeface="Bliss"/>
              </a:rPr>
              <a:t>: attractive force between molecules arising from the interaction between hydrogen atom and N, O, o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onic_bonding" descr="Ionic Bonding"/>
          <p:cNvPicPr/>
          <p:nvPr/>
        </p:nvPicPr>
        <p:blipFill>
          <a:blip r:embed="rId1"/>
          <a:stretch/>
        </p:blipFill>
        <p:spPr>
          <a:xfrm>
            <a:off x="5486400" y="241200"/>
            <a:ext cx="3274920" cy="1435320"/>
          </a:xfrm>
          <a:prstGeom prst="rect">
            <a:avLst/>
          </a:prstGeom>
          <a:ln w="0">
            <a:noFill/>
          </a:ln>
        </p:spPr>
      </p:pic>
      <p:pic>
        <p:nvPicPr>
          <p:cNvPr id="126" name="covalent_bonding" descr="Covalent Bonding"/>
          <p:cNvPicPr/>
          <p:nvPr/>
        </p:nvPicPr>
        <p:blipFill>
          <a:blip r:embed="rId2"/>
          <a:stretch/>
        </p:blipFill>
        <p:spPr>
          <a:xfrm>
            <a:off x="6172200" y="1905120"/>
            <a:ext cx="2030400" cy="1395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93080" y="6615000"/>
            <a:ext cx="377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ider.herts.ac.uk/school/courseware/materials/bonding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627px-Diamond_and_graphite" descr="File:Diamond and graphite.jpg"/>
          <p:cNvPicPr/>
          <p:nvPr/>
        </p:nvPicPr>
        <p:blipFill>
          <a:blip r:embed="rId3"/>
          <a:srcRect l="0" t="9600" r="0" b="0"/>
          <a:stretch/>
        </p:blipFill>
        <p:spPr>
          <a:xfrm>
            <a:off x="5867280" y="3733920"/>
            <a:ext cx="274320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32560" y="6461280"/>
            <a:ext cx="26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mnh.si.edu/earth/text/2_2_2_4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on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4920" y="2133720"/>
            <a:ext cx="6782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are metals ductile and ionic solid (ceramics) britt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oes a material react to pushing or pu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How do atoms react to pushing or pu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4419720" cy="2133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and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s, paper clip, silly put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d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hooke-definitions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461040" cy="1865160"/>
          </a:xfrm>
          <a:prstGeom prst="rect">
            <a:avLst/>
          </a:prstGeom>
          <a:ln w="0">
            <a:noFill/>
          </a:ln>
        </p:spPr>
      </p:pic>
      <p:pic>
        <p:nvPicPr>
          <p:cNvPr id="134" name="fracture_1" descr=""/>
          <p:cNvPicPr/>
          <p:nvPr/>
        </p:nvPicPr>
        <p:blipFill>
          <a:blip r:embed="rId2"/>
          <a:stretch/>
        </p:blipFill>
        <p:spPr>
          <a:xfrm>
            <a:off x="5257800" y="3429000"/>
            <a:ext cx="3565440" cy="3279600"/>
          </a:xfrm>
          <a:prstGeom prst="rect">
            <a:avLst/>
          </a:prstGeom>
          <a:ln w="0">
            <a:noFill/>
          </a:ln>
        </p:spPr>
      </p:pic>
      <p:pic>
        <p:nvPicPr>
          <p:cNvPr id="135" name="fracture_2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3980160" cy="1689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7800" y="60958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Bliss"/>
              </a:rPr>
              <a:t>Material Properti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ress-Strain Cur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the stress-strain curve look like for a ceramic mate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for poly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temperature affect the poly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02:49:14Z</dcterms:created>
  <dc:creator>Su</dc:creator>
  <dc:description/>
  <dc:language>en-US</dc:language>
  <cp:lastModifiedBy>Su</cp:lastModifiedBy>
  <dcterms:modified xsi:type="dcterms:W3CDTF">2009-06-30T12:28:25Z</dcterms:modified>
  <cp:revision>13</cp:revision>
  <dc:subject/>
  <dc:title>Materials</dc:title>
</cp:coreProperties>
</file>